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AF6-E121-432E-8465-6DEF0E77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78C-D6E0-4B37-9453-FEA25F8D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26A-AF98-45F8-9172-E2AA0F19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397-D401-4E56-B37F-B55BE439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472D-3164-4B4D-8057-27345C39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345F-EC91-4453-95A7-2A86EA13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B479-A7EC-4257-96E0-7C74719D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4062-9D85-4BD2-A376-3A22599D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731-95EB-4905-92B5-5CF6E71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CEDB-F93C-4567-8895-E1C964E5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930-A22E-44E0-9A99-85FCA1E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6FD-AC60-42F5-A330-61BDC0AB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B386-92E2-445B-8E97-2553114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C517-61A0-461F-89F4-16A1255F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0C2-B9D7-4DF0-B9F0-0D46B10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4686-BBEB-4DDB-B15D-EE7BCA1F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7B30-D99D-42BD-BE06-E3D3CCC0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130-ED53-4C8F-AAE0-51B361D2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B6B-645C-495D-A384-86E86AD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528-AE44-4685-A064-443DB63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776-508C-4B0D-BD88-494727E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8C3-3F19-445F-866E-277B481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346-C553-4A27-BA39-97DECDF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43F-C071-4DDA-8741-334E090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A758-66E7-4B83-9988-4EA8DF58F8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6E81-97BD-4BA7-BAB8-9734B0FB49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issu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simple or stratifi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= 1 layer of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ified = multiple lay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mous – flat like a fried eg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al – like little hexagonol bo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umnar – like the cuboidal but tal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s of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e hand outs of pages 94-96 for the different types of epithelia, both simple and stratifi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nective Tissu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diverse tissues of the 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 of 3 different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ize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in Fi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id known 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nd Sub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ein fibers and ground substance combine to make up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matrix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urrounds the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exposed to the outside environment although they are throughout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y vascula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receptors to pain, pressure, temperature, and other sens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differences between epithelia and connective tissu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ithelial tissues are composed mainly of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 tissues has a majority of its volume consisting of the extra-cellular matr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uses of 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 &amp; Prot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 to establish a bony structural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port Materi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uid connective tissues are very efficient at moving dissolved materials throughout the 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uses of 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age of Energy Reser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ipose cells store energy until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ense of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 to invaders of the body and produce antibo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Major types of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Tissue under the skin, fat, tendons and liga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many types of cells and fibers in a syrupy ground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Major types of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id Connective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Blood and Lymp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a distinctive cell population in a watery ground substance with dissolved prote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 single cell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there are trillions of cells in the human body, there are only about 200 different types of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s types combine to for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issu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ions of specialized cells and cell products that perform a limited number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stolo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tudy of tiss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Major types of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ing Connective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Cartilage and B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 diverse cell population than CTP but has a matrix of dense ground substance and closely packed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ne is fiberous but calcified to provide rigidity and str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look at the player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96048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Cell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robla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roph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 cells (adipocyt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n include stem cells and cells that produce antibod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 Tissue Fi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gen – long, straight, and unbranched strong and flex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astic – Contain the prote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ast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y are branched and wav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icular – Least common and form a woven branching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nd Subst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clear and colorl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of maple syr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helps slow bacteria and makes it easier for macrophages to consume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ied as either Loose or D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o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st differentiated, contains all of the cells of C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s a layer that separates skin from underlying mus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you can pinch skin without distorting the mus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se co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ipose Tissue (Fa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imilar to Areolar Tissue, just has a majority of adipoc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nd under the skin on the sides, buttocks and brea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se Connective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ly collagen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dons – connect skeletal muscle to b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aments – Connect bone to b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uid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y matrix called plas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ly Red Blood Cells (RBC’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White Blood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Fluid Connective Tissues Work Toge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sma is in constant motion in the blood vessels due to contractions of the he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t gets to capillaries, solutes will dissolve into interstitial fluid (fluid surrounding body cell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interstitial fluid enters lymphatic vessels, lymph 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es cells of the immune system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 the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basic tissue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ithe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ver exposed surfa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internal passages and cha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 Glandular secre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internal sp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structural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 Ener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pporting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til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m gel matrix containing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ondrocy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scular – why it is difficult to repa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d from other tissues by the perichond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types of Cartil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ugh by flexible, connects ribs to sternum, covers bone surfaces in j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resilient and flexible, found in the outer ear flap and epiglott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brocartil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little ground substance, mostly collagen fi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nd between vertebrae, connecting bones in the pelv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es will be covered in the skeletal un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basic tissue types con’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acts to produce active mo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s electrical impul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ries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the outside i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ithelial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ithelia (singular: epithelium) -- covers internal and external surf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ands – secreting cells derived from epithe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haracteristics of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und closely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re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(apical) surfac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exposed to the environment or internal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ached to other cells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ement membr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vasc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blood vessels; cell must obtain nutrients across basement memb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ally regenerated due to damage or l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s of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physical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st abrasion, dehydration or destructive ag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perme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sen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s relay info to the nervou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 specialized secre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 cell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lan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re tissue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landular epitheli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note about secretion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secretions are discharged onto the surface of the epithelium, they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oc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Milk, sweat, digestive enzy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secretions are released into the surrounding tissue fluid and blood, they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oc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chemical messen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thelial Surf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KA Apical Su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have specialized struc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vil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finger-like projections of the cell su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increase surface area for absorption and secretion of materi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nd in the digestive and urinary tra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l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 hair like stru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nd in the respiratory tr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s move mucus trapped irrit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13:09Z</dcterms:created>
  <dc:creator>Rich South</dc:creator>
  <dc:description/>
  <dc:language>en-US</dc:language>
  <cp:lastModifiedBy>Rich South</cp:lastModifiedBy>
  <dcterms:modified xsi:type="dcterms:W3CDTF">2007-01-29T23:15:56Z</dcterms:modified>
  <cp:revision>8</cp:revision>
  <dc:subject/>
  <dc:title>T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